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394651"/>
        <c:axId val="89420082"/>
      </c:barChart>
      <c:catAx>
        <c:axId val="239465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420082"/>
        <c:crosses val="autoZero"/>
        <c:auto val="1"/>
        <c:lblAlgn val="ctr"/>
        <c:lblOffset val="100"/>
        <c:noMultiLvlLbl val="0"/>
      </c:catAx>
      <c:valAx>
        <c:axId val="8942008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9465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4209F-B1E8-42D0-AEBD-3875F5660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20E6A-8BD4-41AE-96BF-8EF4B98B1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A4402-F310-4C8D-AB02-43249382C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3A212-E582-4D14-AC36-DF6DA383A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6FDB3-9B04-4597-9BE7-C8CAF8F1E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0F6A5-9072-4459-A099-B70C31CF8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C4623-6A18-45A3-97C1-410F5F1A1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C3A90-8171-4092-9408-4F49268C2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2499A-295A-4374-BA20-0D6CD3800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EBE91-9EEA-4FBE-A3F3-4381E537C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A6D1E-8EB1-4E45-893C-95A6B38DC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61645-356B-4E62-BDAB-6ED1B9AE3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3B4C79-DFCF-46E7-8136-57EA7EAF455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