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02008"/>
        <c:axId val="91582000"/>
      </c:barChart>
      <c:catAx>
        <c:axId val="62402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2000"/>
        <c:crosses val="autoZero"/>
        <c:auto val="1"/>
        <c:lblAlgn val="ctr"/>
        <c:lblOffset val="100"/>
        <c:noMultiLvlLbl val="0"/>
      </c:catAx>
      <c:valAx>
        <c:axId val="91582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02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B9A-BE1F-404C-A910-D4CFD89C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B40-1988-4535-AB6E-CF0CD10B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07B-CBD0-4223-8E18-CB17E77F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716-9261-49DB-B57C-0139C4E1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76F-9000-455F-B572-2F9B3C63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658-5D20-4CA0-AD33-8CBBE16D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70F-2F17-4F53-B8B0-CD667CFE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874-7055-4A36-AF5F-985D44C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B85-3FB6-4081-A8B0-41F2FAF4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3B0-489F-4A80-BA6D-E3A0857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83B-A50C-4836-AF7A-877A98B0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A50-D12E-48E2-B18A-CFDC0EE2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2A52C-C01F-4E7F-A655-836199E11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