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61454"/>
        <c:axId val="59220249"/>
      </c:barChart>
      <c:catAx>
        <c:axId val="95661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0249"/>
        <c:crosses val="autoZero"/>
        <c:auto val="1"/>
        <c:lblAlgn val="ctr"/>
        <c:lblOffset val="100"/>
        <c:noMultiLvlLbl val="0"/>
      </c:catAx>
      <c:valAx>
        <c:axId val="59220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1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828-6C3E-4466-8F7D-3029F4B7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314-160F-426E-B841-DBE1A3CC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322-546A-4633-B6EF-04DFE28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C21-4260-4FC1-ADF5-7409AB37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A28-0672-47C2-AAC0-84B072F9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641-83AF-43B4-B62A-840B28C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C0F-4938-40FA-AA38-81A86A8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2CD-1D93-4651-A72E-F94125E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AD2-C616-4A45-BD65-21391831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2FA-391B-45D2-A85B-23572A06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342-9769-4AC5-AA38-2C24E50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62D-40A0-413F-BA96-9396AD4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03D5E-87DA-4D6E-8DA2-4B3DED8379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