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04290"/>
        <c:axId val="53044961"/>
      </c:barChart>
      <c:catAx>
        <c:axId val="20004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44961"/>
        <c:crosses val="autoZero"/>
        <c:auto val="1"/>
        <c:lblAlgn val="ctr"/>
        <c:lblOffset val="100"/>
        <c:noMultiLvlLbl val="0"/>
      </c:catAx>
      <c:valAx>
        <c:axId val="53044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4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C27-FFD4-4CD9-B7E9-CC1671C2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129-A7A9-495B-9E03-2AF2123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B1D-7430-4E0C-9677-236BBDB7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747-2D29-47A1-9DFC-47511810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02C-DF63-4349-827E-101C4D63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425-B76E-423E-B0C7-2D8C87D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4E5-3238-4232-BA68-5CB48B6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208-FF70-411C-ABF2-FA292B4F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621-2E43-49BE-97F3-32722E1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2D-8546-4269-BD1E-9BCD837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C5D-140D-45B3-96FF-4790600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18F-CCF6-42B5-A908-3C6AE6F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64E4F-4E8A-4421-AF0F-1FB5E0786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