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95893"/>
        <c:axId val="52462420"/>
      </c:barChart>
      <c:catAx>
        <c:axId val="12795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62420"/>
        <c:crosses val="autoZero"/>
        <c:auto val="1"/>
        <c:lblAlgn val="ctr"/>
        <c:lblOffset val="100"/>
        <c:noMultiLvlLbl val="0"/>
      </c:catAx>
      <c:valAx>
        <c:axId val="52462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95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2DD-12C2-461E-A0B1-7033B83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66F-B07E-4FCE-950F-9EF096E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B27-E715-4940-90C3-803EF550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3B8-08F8-4A7A-81E2-9B9EEB1A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A37-C37F-400B-9EE4-E4612BF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9AE-62DA-4C1B-B2FB-6706DD3B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A07-A79A-43F3-BAD0-A6391D40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EA7-652C-49AE-AE5D-B102F86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A9D-315D-4295-B6AF-361404E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50C-11B6-47B5-AFE0-7E77D74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071-E987-42B6-8BE7-2DE9173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00A-ABAF-4B6B-A608-2BDA6C40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205BB-96E3-4464-8762-9959F4E80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